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3F1-0BED-4833-B5CE-B06B1ABB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624-0421-4E63-9533-DAC8C5AC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87C-588A-42F2-A5F5-88ADC005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FFA-F6BA-455B-BBB6-ED05FF15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210-73B1-49AC-8554-15444804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51A-E3D2-4DD1-A96F-CA52A45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756-880F-4D52-85A0-0763955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0D6-31FE-4A3C-A412-C597F0C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A23-F603-428B-964D-8EE35D15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BBD-81C7-415E-8862-D1FF914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4FF-6209-40DC-B11C-5912031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0CD-0780-4149-80FC-5B666710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D9E8-74FA-4851-9973-0D4722572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nn Diagra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Bar Grap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at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ict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olid Fig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phe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rapezoi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rt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nominato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igh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ac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ixed Number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ixth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n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ir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Unit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+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-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ssoci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Associative Property of Multipl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mut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Commutative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fferenc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dentity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Identity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-groupin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ousands pl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panded For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c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oo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u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mperat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ermome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Y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gl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ca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vex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lsius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hrenhei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ntimeter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ub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ylin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c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exa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r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ne Figur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oly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Quadrilateral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ctangular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0:44:08Z</dcterms:created>
  <dc:creator>Abby Owens</dc:creator>
  <dc:description/>
  <dc:language>en-US</dc:language>
  <cp:lastModifiedBy>Abby Owens</cp:lastModifiedBy>
  <dcterms:modified xsi:type="dcterms:W3CDTF">2010-05-28T01:14:28Z</dcterms:modified>
  <cp:revision>15</cp:revision>
  <dc:subject/>
  <dc:title>Venn Diagram  Graph  Pictograph</dc:title>
</cp:coreProperties>
</file>